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3D49-7FE5-428E-991F-1DEC7FFF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7E3E-E73A-41AC-87C7-A148A132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1597-B208-4974-889F-F91AFB95D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4B4D-1B99-4C4B-835F-832E3E95A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C575-4716-4247-A8A4-68FDCA6A6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75B7-1B12-4BA9-8CA3-1E0E5D90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4AC1-7775-4591-8498-36DC2AD7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E684-1079-43F8-89D8-877F6223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0A10-0A2B-4BC3-96E8-AEA1CECC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723A-4ED8-4935-B184-97FCB82C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3C5B-64F3-4EA0-8CF2-BFF0481A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63DA-0A8E-468C-97E0-C06B6463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5521-6DCE-4310-9F5D-581AF4F7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5CBD-E8D1-4206-83E1-0C3FA4FF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6E3D-05A6-46C3-A455-60B6F154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7C6E-87D9-45B6-8711-1196B431E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DC02-CF27-482E-9A92-2E345B6CF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5638-BE20-475A-A194-58E0F53F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96E0-E58F-48D0-98CC-04071485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FA65-FA33-48CD-BC62-8357FC7E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2754-872B-40D1-ABC2-3B91E948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B052-F7E1-4556-8695-9406AC48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3502-C554-4C86-800A-D668545B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C1DA-5818-420D-9481-812B8119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727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6b5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dde9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6465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b56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27c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b56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727c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27c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BB4C-12E4-4A75-A01C-C3D50E4B0FA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dde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727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dde9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dde9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6b5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dde9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6465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b56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27c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b56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727c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27c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94AF-11EE-4057-99F1-8AE9AA2132E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38cae"/>
                </a:solidFill>
                <a:latin typeface="Times New Roman"/>
              </a:rPr>
              <a:t>Денежная реформа 1961 года</a:t>
            </a: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32000" y="1773360"/>
            <a:ext cx="38098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25b7e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525b7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525b7e"/>
                </a:solidFill>
                <a:latin typeface="Arial"/>
              </a:rPr>
              <a:t>Под руководством министра финансов СССР А.Г. Звере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25b7e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525b7e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525b7e"/>
                </a:solidFill>
                <a:latin typeface="Arial"/>
              </a:rPr>
              <a:t>Цель:</a:t>
            </a:r>
            <a:r>
              <a:rPr b="0" lang="ru-RU" sz="2400" spc="-1" strike="noStrike">
                <a:solidFill>
                  <a:srgbClr val="525b7e"/>
                </a:solidFill>
                <a:latin typeface="Arial"/>
              </a:rPr>
              <a:t> увеличение денежной мас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25b7e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525b7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525b7e"/>
                </a:solidFill>
                <a:latin typeface="Arial"/>
              </a:rPr>
              <a:t>Старые деньги обменены на новые по соотношению 10:1, а масштаб цен соответственно измен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1"/>
          <a:srcRect l="7189" t="17787" r="0" b="7115"/>
          <a:stretch/>
        </p:blipFill>
        <p:spPr>
          <a:xfrm>
            <a:off x="755640" y="1557360"/>
            <a:ext cx="3889440" cy="1808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"/>
          <p:cNvPicPr/>
          <p:nvPr/>
        </p:nvPicPr>
        <p:blipFill>
          <a:blip r:embed="rId2"/>
          <a:srcRect l="0" t="52410" r="41851" b="23546"/>
          <a:stretch/>
        </p:blipFill>
        <p:spPr>
          <a:xfrm>
            <a:off x="755640" y="3573360"/>
            <a:ext cx="3887640" cy="1971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1:13:22Z</dcterms:created>
  <dc:creator>User</dc:creator>
  <dc:description/>
  <dc:language>en-US</dc:language>
  <cp:lastModifiedBy>Admin</cp:lastModifiedBy>
  <dcterms:modified xsi:type="dcterms:W3CDTF">2003-12-31T22:22:09Z</dcterms:modified>
  <cp:revision>36</cp:revision>
  <dc:subject/>
  <dc:title>Денежные реформы России</dc:title>
</cp:coreProperties>
</file>